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48B74-D438-442F-9259-9F813E7966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«Сахарный диабет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«Сахарный диабе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у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ыв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такое сахарный диаб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колько типов сахарного диаб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характерезуйте I и II ти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ахарный диаб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лько типов сахарного диабет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арактерезуйте I и II ти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мпт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иабет I и II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бет I и II ти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Аппарат для измерения уровня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 для измерения уровня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27A-C9E9-4547-9776-111D7384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A2A-DC61-4DE7-BC36-B23FAD81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25C-3ABC-424D-A40A-1EF42FCB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892-17F5-4465-8472-EA3BC2C1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4D9-8F8A-4119-8422-98D7371C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0C1-64A6-444D-89D0-772D7CC5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5B8-666B-4BAD-B2AE-0920690B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244-FCF9-478C-A779-1850DA3F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B7C-F297-4CD8-8887-B27A37BC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94C-41D5-4F2E-B15B-772E0753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1CE-314F-4F0F-BA3D-7F919E9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EC8-4252-4073-AD03-623A6E1E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C3E29-23F0-46C1-8235-B5E7B0E4C5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360" y="2226960"/>
            <a:ext cx="90709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«Сахарный диабе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 у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60360" y="1440000"/>
            <a:ext cx="936000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1619280"/>
            <a:ext cx="899964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80000" y="3419640"/>
            <a:ext cx="306072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Что такое сахарный диаб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Сколько типов сахарного диаб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Охарактерезуйте I и II ти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360360" y="1787400"/>
            <a:ext cx="918036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440000" y="1260360"/>
            <a:ext cx="701964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импто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9640" y="1800360"/>
            <a:ext cx="8999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879640" y="539640"/>
            <a:ext cx="4500720" cy="64803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Диабет I и II ти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 тип - инсулинозависимый. 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119640" y="4319640"/>
            <a:ext cx="2340000" cy="2879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I тип - инсулинонезависимый.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343480" y="3959280"/>
            <a:ext cx="3657600" cy="26082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976480" y="1009800"/>
            <a:ext cx="4318200" cy="58244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Аппарат для измерения уровня содержания сахара в кров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772240" y="2519280"/>
            <a:ext cx="286848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260360" y="2519280"/>
            <a:ext cx="2340000" cy="30607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8:21Z</dcterms:modified>
  <cp:revision>3</cp:revision>
  <dc:subject/>
  <dc:title>  «Сахарный диабет» </dc:title>
</cp:coreProperties>
</file>